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6100-6E76-4C57-A2E7-C251E550D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2FF2-BB41-431B-A7D6-E9624FD17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F596-EF34-4717-8FA5-7D49D662B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34D6-DD85-4188-8139-DAF8DEC0D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165A-EED7-4F32-8BFB-CB4CA3368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39A9-819B-464E-879B-57576B14A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C0E1-4C58-4930-B4E6-C17FFB3B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CBF3-FFC3-411F-88C7-42332363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6197-9277-46A6-8629-5AB05B56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E47D-C97E-4DB0-86EF-555465CF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323F-5E6F-409E-88EE-45E20167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C6CD-A962-43AD-96E7-3A4F0A79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A6E6-FB81-4EA6-B429-41E74712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87E7-3228-4C0B-8F40-50F76956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DC77-D376-443D-950F-E80EFEF9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59C2-D927-4F4A-BD35-83F55EED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982A-2B6C-44F7-92F9-1756E30F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EC92-7581-4306-93DC-46307466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006B-FB3A-4D8D-91FE-BF946924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823E-C59D-41E5-9C44-CD84A751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BDAE-4586-4171-80F8-D3EC500F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CE97-D633-4B1A-87EB-6DED35EE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40AA-3673-45A8-B0D7-B333AA9E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D441-4AB0-43CB-913C-11B5C94D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7338-42CB-4CEF-B6F2-46E0EC88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AA49-1A92-4EB2-96C1-92FE4C8E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0636-ABEC-434B-B14D-20A10AB2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B44D-59C4-418C-BE96-90592D61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2EDF-91AE-44FC-8C45-C444F6D0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AB69-2C89-499C-BC25-7CA24784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BC9B-A51A-41A8-8406-C59070971D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B35A-7125-400E-AC93-DEE4328226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Document Design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03 Demonstrate desktop publish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5072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 Example of a Master P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7" name="Picture 3" descr="Fig3-07"/>
          <p:cNvPicPr/>
          <p:nvPr/>
        </p:nvPicPr>
        <p:blipFill>
          <a:blip r:embed="rId1"/>
          <a:srcRect l="529" t="12504" r="20452" b="0"/>
          <a:stretch/>
        </p:blipFill>
        <p:spPr>
          <a:xfrm>
            <a:off x="2641680" y="1905120"/>
            <a:ext cx="5113080" cy="40068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4"/>
          <p:cNvSpPr/>
          <p:nvPr/>
        </p:nvSpPr>
        <p:spPr>
          <a:xfrm>
            <a:off x="0" y="2289240"/>
            <a:ext cx="4495680" cy="2895480"/>
          </a:xfrm>
          <a:prstGeom prst="rightArrowCallout">
            <a:avLst>
              <a:gd name="adj1" fmla="val 25002"/>
              <a:gd name="adj2" fmla="val 25000"/>
              <a:gd name="adj3" fmla="val 25878"/>
              <a:gd name="adj4" fmla="val 6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ster pages are g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laces to create h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nd footers, insert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umbers, place a logo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raphic that appears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 p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6320" y="5184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Master page i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152280" y="5870520"/>
            <a:ext cx="213372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2362320" y="6095880"/>
            <a:ext cx="5943600" cy="609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 this example, a footer is being created that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isplay on every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 flipV="1">
            <a:off x="3581280" y="5028840"/>
            <a:ext cx="1447920" cy="10666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2240" y="277560"/>
            <a:ext cx="732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urpose of a Master P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intains layout consistenc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ludes items common to every p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51"/>
              </a:spcBef>
              <a:buClr>
                <a:srgbClr val="ff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st desktop publishing programs allow a left and a right master page for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acing page layout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51"/>
              </a:spcBef>
              <a:buClr>
                <a:srgbClr val="ff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e desktop publishing programs allow the definition of several master pages that can be applied to specific pages in the documen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5072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totyp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4952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totype, or mockup, is an example of how the final document should appe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using software or paper and pencil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lled a “dummy”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Fig01-01"/>
          <p:cNvPicPr/>
          <p:nvPr/>
        </p:nvPicPr>
        <p:blipFill>
          <a:blip r:embed="rId1"/>
          <a:srcRect l="21277" t="0" r="21277" b="0"/>
          <a:stretch/>
        </p:blipFill>
        <p:spPr>
          <a:xfrm>
            <a:off x="838080" y="2133720"/>
            <a:ext cx="33530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4560" y="228240"/>
            <a:ext cx="802944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ormat Considera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f the document sizes and layouts that will be used in a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s and documents may include one or more layouts for the following pub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terhe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siness c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sle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it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-fold  or double-fold broch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 rot="820800">
            <a:off x="5341680" y="3831840"/>
            <a:ext cx="285264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6:27:10Z</dcterms:created>
  <dc:creator>bcrockett</dc:creator>
  <dc:description/>
  <dc:language>en-US</dc:language>
  <cp:lastModifiedBy>cmiller</cp:lastModifiedBy>
  <dcterms:modified xsi:type="dcterms:W3CDTF">2010-07-12T18:08:57Z</dcterms:modified>
  <cp:revision>11</cp:revision>
  <dc:subject/>
  <dc:title>Slide 1</dc:title>
</cp:coreProperties>
</file>